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C37-C5C2-4B1F-A585-FE49E2C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2F1-1CC7-4BF6-81C5-C1007F9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53BB4-C805-433C-B2BE-E3739FC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A0C0F-B758-448B-A6A7-8C3C3B25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8171F-5CA5-4D32-BE8E-5C5BF6D0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976AB-E5E1-40FD-82F3-9FDA8796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7238-0F17-489F-8E2B-46101DC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F469F-6441-4AC9-99CD-8B55174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84312-15DA-4D64-9BDC-0215E50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FB0F3-80F6-4149-931D-CDC890D9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73DE9-5CA5-4BEA-97B6-685C01F7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AC770-A0B8-4CBE-9367-8944F50C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6D0-1382-4CC9-84B2-5D2AC8E7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E7B0-5A28-4086-8F23-F6139C0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B1609-E6C7-40B0-BEF7-E0CECB38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09160-F1E4-4E50-BD8B-0A47A9D9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4EDB7-1291-41BE-A9A1-4B5BF03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CDCB3-63EC-4457-8B5A-9C91EE25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9B9B2-A052-49A1-A8DB-6AB0B102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698FF-103D-4D5A-B37D-F7BE9DF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FA9C1-6CA8-4ED5-95EE-A611E88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5C605-71CD-4554-820F-BD35A5A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84A98-7A60-40A9-83E6-F454F13D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D9-082C-46FF-8F45-CB65051B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CB845-973E-41B8-BC7B-22D2737A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7F73-0FAD-41AB-B716-6760BBA4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91AC3-7D1F-411A-8EF9-61AA5102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1581F-11B6-41E0-AB3D-FA84849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8EEA-FFBB-47A0-9345-B55983EB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FA326-F345-4EB1-A5E4-BACD59F1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D5101-AE16-4761-B435-1AEA12CC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A9A7-2118-40A9-AED2-0E986BF6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84F5A-F1CC-4EF8-864B-C6629333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1DB20-C107-4CF9-BF35-0780CA45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5337-80C2-4FE5-ACDB-B269DD9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145B3-702C-4978-94D1-296B6AD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484A-8280-4926-8320-D0A9A2C0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4D4A1-FDA9-4E92-B814-7E1A90E2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B8DD0-EEE3-4D13-B1EA-5E080B44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3CAB5-1FBB-435B-B86C-069296F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0D21C-7823-4946-82B5-4B0FC48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1C337-E671-4E70-BA46-53C0FDC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2A577-A6CD-4DAB-9C32-DF61D6D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23515-09B7-4659-9F84-F1905A6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5927D-945C-415E-9977-A5781CD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7BB-0D69-41F4-8CDA-59C2CD90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FDD45-8805-4714-A4E5-B1A3540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385E1-97A8-4177-920E-E76CFC8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E771-4801-4957-8337-B1F6DF8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32E4B-99AA-4EC9-8525-A23C7D11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704C7-2CC4-4B2F-BDB0-799DCA94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63B3B-AA80-464F-A0CF-8A22D184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CB50C-9AFB-4DD8-ACF0-18F9DCE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88A5A-DC56-474F-8D64-5761317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04549-8773-4D3A-B55C-EC1C5C9D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DE819-E2E2-4DA8-B2AC-21CAE7FA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86F-7BC3-47B0-9ED2-83D58A6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C9912-39EF-4278-AA76-0576C9D1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9768A-97F5-4C9D-9284-55D09C2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27915-2D75-4CFA-B2E8-3F11C75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2D1BF-5428-419C-A71A-27D05D1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EA935-5902-4113-A504-3097A27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71E41-3D91-4B0F-8B38-A06B7E49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44A19-A0FD-4CD1-8F6F-CB04E7A1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8DFD9-7868-44F1-BF5B-B9B3A7B0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F604F-55FD-4338-9422-C403A92D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F8087-03C6-42A0-8DE1-903E306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3310-23E4-43AF-B5CA-101910B6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FF196-919A-4FEA-AC73-6BF8660D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07F93-53A3-456A-B933-001F4B56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59676-9968-4F08-91C3-3DF5B21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617BF-D3CB-42CD-80C7-2BF0619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DE00E-0681-4CBC-B5E6-B7E0277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A7599-F8A4-475B-A9C5-96F469F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162EF-2FA3-4C15-A354-AB33BC3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DC490-5608-49C4-AA13-56B7295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BAC56-82C1-4CB3-AFBE-8FE162F2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E4417-793D-4BAF-9A17-E9590062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4780-EAD8-42EA-B1ED-6104C51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F1C72-1617-4D78-AD89-D703AC50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BC946-0524-492E-BE86-F43B4DB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DA1A4-932C-4368-ABBD-8FDA2BD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7BFE4-340F-48A8-A872-5079ABD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F223B-1380-4EEF-A377-B4B4F695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53871-FF6F-40A5-AB79-D93E5FE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0B2ED-7FD9-4F97-9DF0-1720D3D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FF36F-C453-41CF-AD97-F298B90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04A5D-DA7B-4DCE-9612-96EB61E0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9D4A5-CCBB-45EC-B63C-6E31997B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7A85-C814-4430-B445-5784C70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74B8D-5D65-4802-B780-89CB6BC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69223-1265-419A-9431-15E2CB23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1C8CB-76E0-4812-B0F4-E1C0E0A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F6F18-FF8F-48FB-A230-1382D04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910BC-EF09-4207-8BC0-33197D9A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96C44-5127-4F7B-9893-008D416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8EA41-6CB9-457B-BB53-17C674F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F1378-071F-46E9-B372-ACB3536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DC3CE-0340-4460-ADBF-9A6B4BF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1C7AA-DE37-4AFD-84AB-7E7E30F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ECB-329C-4180-9D38-261558F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10DC0-C032-4523-82C9-DED1DEF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CB007-7A19-436F-8CEE-77A7E6D5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2D48D-B603-4436-A19E-CC545BC9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5A73E-C540-4235-A24C-7FB6D4C4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14BC5-60F4-42F1-9B8B-128037D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3E2AF-667E-4EB9-961D-1536607B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42244-4B14-433A-BDDC-AEC3E702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38CC6-7288-4915-99DC-98B6FB1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0F240-64F5-4C88-9C9E-3F8D109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5137B-D452-4ABF-8A53-8D62B55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135-619D-4C54-AC85-28432FC6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13C9-DAD6-4A41-9D95-245F8AD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D7173-0580-470B-A557-0BD3812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4CA75-7661-482A-B5F6-C2793D7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A4E6B-0C5D-45E3-B2F5-03FCAF8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41E44-F9E5-4E27-90D1-0BA7A539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65F37-6C19-48C6-BE77-6E5C7692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D6D1B-E29B-4214-9756-0DF41EAC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8907E-377B-462C-B6B9-E3FEAE7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4277B-BFCF-4C00-BCBC-3DB35F0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3B65B-480F-43CC-B7D2-690BB01C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1878C-9073-4935-8264-CE25723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2D2-B45A-4AAA-8DB7-5228E20C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52CE7-DFCD-4555-9881-D70982DC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E348E-7F47-43B4-A837-B027D63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3E223-4BE3-4B1A-BA68-F5138B2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B7724-9F10-4C10-9B01-3C76FB0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D90BF-D6A4-452B-B426-20E9F98E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94D1A-FF23-4847-85C4-049F5DD7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0DC49-DFEE-4622-A6D0-D6828676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BF472-5444-4EDD-BB63-BB63A517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136B4-70FB-419B-838E-456DF33C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7594E-4832-4A3A-B55E-AA05ECA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E1E0-0721-4CF5-A7C9-F32A06B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434A5-D9C2-4090-8A72-EEC5008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1AC82-9150-4E05-BD3B-7AA7A2F2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A7796-F7FF-4183-8224-C1CC496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6927C-72E7-4111-A940-41ADDD3E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FA46C-0107-4505-8E44-55F94A0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82926-B450-40A7-9F8E-46B2C88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71210-0545-4969-A991-5A08C45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87F06-52F0-4EB6-9CBF-B5DE6D09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618D9-6F48-40FE-BC15-DA8C1291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4E2D3F-B9E2-4C56-911F-5F37C893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9C5-457A-4647-9FEB-73B3D645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4242E-E616-405D-BA02-6CE2332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BA798-F6FB-4E5A-BA91-44A1FFC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3FF0D-490D-4D33-8EE1-7C2D082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FCD22-DF63-47BE-A365-559F74FA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2E066-9D5F-43A7-BC81-58E675FC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63B02-53E4-43F1-B601-9BD130F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47920-B468-4984-B09D-5EBD300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42DB7-9FF2-4442-B126-68DD75D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AD73A-D3CE-433B-AEA9-48BA5EAB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CFAE8-E2D9-45CC-B868-BF74FBF1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8BF-1874-4151-849E-A2EF7E3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15179-34C8-4845-9030-3E783292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9262C-2951-474E-84F7-D9F0D34D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3BE4A-C9D9-4BAC-88EF-867278A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9C691-7E4C-4114-9B9A-201B03F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78935-11D6-440E-9E7C-1D3CA6D6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E20A1-F847-4701-9BA3-D8B76C9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B5FBF-DA10-439B-9CA8-C5C2C8C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BF2C3-C241-41FA-95CA-1211AE5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FFF80-D494-4CAB-BF40-EDF203E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4A8BC-CC20-4946-9F0A-2AD5CC5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69FE-1BC0-4692-8B5A-ED1EA15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ACF53-20C6-4A20-82BF-CA68633C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BA286-0C72-449A-8796-C51E9110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5EFD3-498D-4799-9000-15640975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209D-8CDF-4E05-AEBA-AD102D9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E825-D99E-4153-A4D5-60723E5F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4B0F-21B2-499B-96EE-5CB2B9E0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BAA8-E563-4C60-B338-B2FE902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21C-F5DD-40E4-B829-14786CF5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2351-3F54-4C58-BEB5-7B6BE8B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0735-ED28-4C87-A19F-2BDD10E3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B376-8C3D-4758-9998-83D00F40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255C-A0E9-4B14-96E9-0A44831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020A-0D94-4ACB-8454-55181F0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BAF8-02AD-4983-A716-772DEF26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01B9-C5FC-4065-B484-099B70AA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B9FE-C863-45D6-BCAC-9B52B65F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1D0B-73D1-461C-BD9D-4DCDB17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85E0-552F-46FB-945B-5A4FB12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9FF-8FD7-4E01-8F57-28AD2DE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14C4-CF4C-45BB-B554-E73D66DE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E72F-FA07-4EA4-A7EE-B318726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B310-3907-4951-A797-6E7E84A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6086-074B-49F0-AF32-3980939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5C32-192F-44A4-9C01-F94D265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6666-8528-43C9-847B-3C95E2A2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BE32-C9E8-4AEC-BC8B-F74733E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92BD-7156-41C3-B52F-7B4EB662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6B4C-9B5C-4FF3-957A-AACAD9F5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A00A-0477-40B0-86B3-07CC2DDA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468-7A38-4D08-B220-38414A6A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61CA-2B67-4D23-941E-3945A118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60D2-1F4D-4ED6-9440-EEC78721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EE65-90FD-43C7-884E-B5ED3A2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134D-6E09-4E73-9624-850603F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D8D6-223F-4282-A262-ED3C282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C0EA-D2DF-4D6E-BE63-C2EAD4C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8F40-64CA-45C4-AAA7-43163A5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B195-5D84-44B9-992E-78C3355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0DE0-AF39-4F9D-995A-83A1E42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C243-4D83-4249-B040-CEC69DA7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FCA-B707-4B76-B8C1-AA29DFD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0853-C164-460F-B7E5-1103FB98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B500-6027-46A7-B4F4-CAC72A62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E93B-ADC3-4FD1-A96F-4E6977A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F642-F1B7-423F-9F7E-45D2214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6F8A-B294-47C2-B192-6753D9B6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DB46-0E62-48AF-A74F-E447939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4239-C121-4C55-AF94-7D071A1E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D8B8-7E09-42D6-9516-7C4DA0F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04F9-F2F8-45CA-8A63-7AB596A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C9D1-C0DA-4F6C-A18B-99FE58C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ED6-94B7-4DE6-9EC6-4E235D9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DF79-21E7-40F9-A398-BA44E191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A8F5-DFDD-4BC0-A8CF-FC86FB64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D304F-6656-497F-B3A6-94E71688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EF63-DD77-4B46-8292-40CD7C4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3148-B517-4DEE-BB9F-DA276CFD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815E-87F3-4E5B-B054-88E975A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CA15-36C0-4987-B7E5-C255EC2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B3609-5776-43F1-A5AA-B1CFC67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1860-C5BE-4754-A232-7451FD8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D8D9-9BA8-4B29-AD35-0A512D61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9BA-782A-4EAF-80BB-7172387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D110-A253-4669-940E-9992F95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BBF9-85C5-4188-8F15-6CE2D8F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6A4B-7654-434C-9329-BB43CD0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A6463-E12B-4492-BE98-3B085010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E83A-DBC0-4AAC-A4ED-52637516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D3C2A-936F-42A6-B1E5-52B456B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4C71D-E523-407F-84A2-E58F407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F7BAC-67E8-4A6D-BFC0-001E83A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9AEA-D928-43C4-8FA0-FCE75E6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C4282-1E7D-424A-921A-134AA3E2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0DD-8D11-454E-9227-F0E8F91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8B02-3058-4EA6-9FD1-9D1738A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5477-72F0-41C6-812C-97F497C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34B3-124F-4A65-B25A-1D8B42D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1917-FADA-48EB-A388-152A79E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4F7F2-A727-4B5A-A477-1ED3FCE9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18DA-3C4A-412D-8D74-C17A75FC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369DA-087D-41E7-AF62-9726BC5B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B276A-71C7-43F5-BB04-1AD90633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2388-7A5E-4E0C-98BD-DC7932BA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782A5-8309-4A0F-9BF0-0E42A86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E26-A988-4F0D-BCCA-986CAAE93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3ED-E196-4E99-BC5B-75728941E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E65-F48D-4524-B5B3-23462CF40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2C9-0E41-40D6-877A-E575F2AC07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6A9-57E9-4E1E-9048-F95B0DD1D0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D0B-DD6A-4B39-AED6-5089F6E08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0EF-D7B1-4301-B005-8B24791A0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C821-DDE5-45FA-8556-0B6D1D232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CA4D-F2A4-41F1-8704-A81849F30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13AD-7799-441F-BFE3-0CA449F579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5E3C-4DEA-4BA9-967A-44C2748A5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64F-7A00-4AC2-AD46-F77E089020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55E-78AD-4B20-BE01-778EA76FD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D1D4-BF8C-486E-AAF3-CB5395002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9EE-8429-415A-A417-5E9184D7D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31C-1C48-4EFD-BF81-F4E8D60AA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AD1-DB7E-427B-B25D-58F9055D6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B0CB-9E80-40C2-BCD8-5F0F6FB53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48D-9C21-4E78-AAF2-DF94BE207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E2AB-D0C3-4B47-A7F5-08E385C67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AD4-BF59-441A-943A-5B002D299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727-CAAC-4744-9FAD-09AC009A8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BEDF-D803-4678-88FF-A2E1F90E1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1AC-B108-44B6-827B-D578872591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8E44-1AA6-4F82-A89A-E2BF356F1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CA9-9C89-41FB-B6D5-69E6E98B0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C92-9428-4441-BF32-E307B8C78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4BD-F966-4F5F-B5A2-48E0CCA79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06C-2903-4EFA-887D-D429ED746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E3D2-3246-4AFA-8814-1CA3DBD48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63F2-1296-43A8-96D4-11C29D5132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1AA-1806-41BD-B533-C01AC6739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BC74-765C-43C5-855A-CCD139D18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DA5-12FE-4685-B830-DC7CF9E30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026-8712-4625-B39F-FA98D4FAA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69C-F6B7-4E5D-A5CB-AC56A7F97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2CFB-1616-4162-BD98-7B213CB9A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DBD3-DB21-49D5-945C-6B461E90E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8AB-FCC4-4413-B967-A3C255A343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CE12-4144-477C-B0A7-6975323EB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6920" y="2948040"/>
            <a:ext cx="46101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237960" y="534960"/>
            <a:ext cx="8668080" cy="6134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755640" y="376092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11280" y="437976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1006560" y="50418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861840" y="5661000"/>
            <a:ext cx="813780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55640" y="619452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1044720"/>
            <a:ext cx="8458200" cy="5553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116000" y="4551480"/>
            <a:ext cx="3672000" cy="965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3672000" cy="965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92720" y="4581360"/>
            <a:ext cx="3672000" cy="965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472000" y="5603760"/>
            <a:ext cx="3672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743040" y="1652760"/>
            <a:ext cx="7657920" cy="3552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384720" cy="1009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384720" cy="10098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4788000" y="2852640"/>
            <a:ext cx="3816360" cy="10098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4859280" y="4005360"/>
            <a:ext cx="38163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71520" y="219240"/>
            <a:ext cx="8400960" cy="641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258920" y="3255840"/>
            <a:ext cx="7200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720108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1187280" y="4695840"/>
            <a:ext cx="720108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1116000" y="544500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971640" y="6165720"/>
            <a:ext cx="72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581040" y="971640"/>
            <a:ext cx="7981920" cy="491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971640" y="38750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900000" y="459576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755640" y="537372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90520" y="914400"/>
            <a:ext cx="8562960" cy="5029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84360" y="293832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416232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755640" y="5373720"/>
            <a:ext cx="705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99880" y="1557360"/>
            <a:ext cx="8544240" cy="374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403280" y="3543480"/>
            <a:ext cx="69138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691344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476360" y="4738680"/>
            <a:ext cx="6913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819000" y="1933560"/>
            <a:ext cx="7506000" cy="2990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1561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898560" y="377496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755640" y="436572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1042920" y="1866960"/>
            <a:ext cx="7058160" cy="31240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332000" y="252108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258920" y="315612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1405080" y="3745080"/>
            <a:ext cx="6624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332000" y="437976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1:3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